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move the slide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CF157-F9A8-4C84-BD86-859AB7CD1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89967-3C37-4FA5-8B87-7D5A9C874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for wri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3BF64-5416-4800-9A48-F9240C2D4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65C48-3236-4252-9FCC-0FB28703A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C1456-72CC-4B58-877E-CE59CFE4F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for wri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EDD93-BF61-44C6-B42B-CA5C59B7F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E823D-81F1-4152-B1CE-4BA5A073C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A5691-5A62-4BDF-8FC9-5ABAAE82F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82495-9835-4980-9E34-E84AE7CE4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D57-B64A-4ADC-A2FE-8D2D0F0F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80D-9CF0-45DD-A6B4-09BAACB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3C3D4-A178-48E5-AA35-4EE91F1B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ECA43-23F7-4FC9-B946-54F4B51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59D12-924B-4DBD-973B-9E3265A7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37185-8FBC-4D9E-BD58-D6C1013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108FC-9122-4C52-B7C8-AD68698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C6552-A1E0-4666-A176-8CC4F35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9336-06C1-41EA-9CE1-E75A10F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7228E-6D27-4284-B627-9412D8F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E5FA8-A5B3-4443-B969-9297C75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CF0FD-464C-4CF8-9B16-C1214AD2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CCB-BC2B-4562-8AF9-801923D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D538B-B803-47F5-8F27-AF33A5E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AEF22-9A5C-4997-B384-0A24BBA5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A532-F060-4431-AF33-EBC450B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1CEC-0057-4535-82E0-993F583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8603-B541-466B-8128-67C9067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908E2-F519-489B-AF4A-23ED751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8DF4D-090F-4F86-86AA-14ABB25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40FBB-DF9C-4397-977C-6D7260B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F15C9-8A71-4021-9D47-E6745C3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442F7-E64B-4169-A487-4C4D918B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6A0-AF09-486B-9BC7-967CCB4E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BA9B9-B250-4B8C-A729-A2DA4B3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C953-CA7B-49B4-806C-FE1C8417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CBE2B-8AEB-46D8-AC1F-BFC2A16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DED4-D073-4FED-8389-49726D20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C87F-E737-458B-8941-665F064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16B6-8100-4EAB-B52B-4D66242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2D4A-C1C1-4525-BC48-4F9A31E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F5780-DD57-4043-AE91-9959F69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FE5F-A7B0-4A25-A74F-935E0CE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8212E-98EC-4A19-A94A-348F629A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8AC-EC7C-485D-A06B-0E7AE521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6BBB-5D00-409D-BE84-E06040C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6562-5B3A-416E-BB36-7F2890FB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E861B-A9B5-47D1-82C2-DA581506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ACAF4-82DD-4D45-BF34-5DC5C48A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172FF-AC21-4631-B81B-2F2252A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73890-4802-4083-A17D-DE1D3DB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F13A1-C49B-4DEF-82BD-35DE1196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47858-6793-4ED3-8AA3-2319E3C0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57651-7BAF-483A-AE6C-99DF793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685B-E058-4C2D-A25C-25D8271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3DAF-0D05-484C-9494-150F95B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17844-BDB8-4B36-AA80-54CE0C25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E15F2-35E7-4467-B1A9-CE76BF8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CF416-F95B-4E8D-965B-E7FD141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70919-B153-42A1-AA9E-B30670B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5A6CD-C686-437C-AE28-0F3E86DA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9D05E-A257-43B6-ADB9-6D91F505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A264A-C5BD-44D0-836F-EC148082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F2237-F979-4FF8-8A97-2629E30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0B06F-8C0E-4476-9A02-85394A6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F4A28-5127-49E2-B88F-6A4C8D81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A94B-6A54-41E9-8027-DCE036A5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DB1F2-9D26-4D71-9591-70B274E8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C31C0-C247-4E41-B5E5-FC644E1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082EE-6613-4990-B8DA-EEEDA7C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C9A4C-A16A-41C3-BF31-E5819FC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91FF5-6C0E-47F3-9C2C-CADFCD80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B8692-0810-4344-BC09-01628485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6AA75-562F-48F6-B899-73702740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937D4-C2D5-4BFA-B409-AE89BEC6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39495-1E79-47A3-BD4D-1AE43389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42F7C-8498-4D0D-81A7-D46C1BB5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5F3-6E75-417D-869A-6485062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901D0-5BD4-4E7C-BC69-B744B4A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C7F7A-B49C-45EA-90E8-16FF495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46EE0-DEFC-4DF2-93D8-AB7F7FAA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B7889-6CDC-4744-BEE1-2B8C2BE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E2DA0-501B-416D-A4BE-449AD6D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F5ADF-C669-4D37-A676-1F2B7E6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0F568-482C-46E8-B18B-669A3C1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9AF41-FF0E-42BF-AB0C-33FD9A6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D5838-75D5-4E53-B30E-C373CF76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1F47-6B2C-4622-8B2B-C3571BA9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0AE-A8C0-42A5-9341-E0AEED16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D0F2-8B79-4CDC-8413-1209CDB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49C-ECF2-406F-B9BF-3B367AF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5C4F-B1DC-47EF-B3D4-2CA524EE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E316-8687-4D7B-AC49-18BE991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646-2B66-40EA-B243-69C71FA9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747-898F-46AB-9BD5-A1BBCA2C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A140-0261-4B8A-B820-73E8B41E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CC7D-9B4C-4109-B525-2135A962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8E08-2689-41BB-B5A5-821593E6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FFD1-19D3-4B3D-94EE-C87DC1C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3780-0F7C-42B5-BB8C-AC59F11D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78C3-4B0D-4337-9D6B-D9278D1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65A-0666-4220-881E-59C168F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FDB8-3322-43A3-973E-4771CE95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C95E-8E9C-4308-B74C-DC77F4C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D2E3-A437-4551-84F5-3429CAF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4E8C-2EDC-4C2E-AEB1-EB02C39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67DD-0C50-4A7E-920D-0FD4DF5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FB6D-69F6-4D39-9119-B48F8042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DB70-5FEE-47F3-A323-9CBE400F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39AF-7611-40DC-A1C0-2232051D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CB30-D88F-406B-895E-CCF48C13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85ED-D375-4B3D-A989-1CEEA54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8C1-9505-40DA-8EE7-A391070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9FA4-15D5-43F8-B54C-3CAFA91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90C0-BFC7-4D0C-B8B6-B271F70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6192-EE66-489F-B649-E612295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3BBB-85FE-4E27-B36C-8AB0926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BAF8-B853-44F7-AF5E-B7C4BE1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DBC2-6A51-4E67-B954-845DE12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EE93-11AA-4DAE-830C-69EFD3F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EC0E-8A3A-4EB5-8D52-E1A00FF7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760B-B115-4E6B-8A16-1BE954B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9DED-543E-43FE-AC38-2155FD7D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B4B-DD05-4DBB-B1A5-0217692A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2CEF-781C-4F8D-9482-7ADBBBA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07DB-C411-4D78-99DC-849F873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D43D-480D-497A-A610-75594946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2C6FF-B1E4-46F5-AE19-6036E83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AE3B-7EF0-4D70-98BF-932BBF92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933D-7FC2-4C7D-8DE1-915D1BC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ED90-02C7-44A5-903F-25C91ED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0785-B7A9-4DA0-BA1E-CB63327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1011-5A16-4859-8F81-3F3C949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B147-C877-49D0-9B1A-C04CE3E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9D7-3883-46D9-813A-658B590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68EC-1B18-4D35-B063-3B0E8F61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4B55E-5851-42F4-A3A8-282B2DA1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7C80-B1B2-47D3-9A86-88661AD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735A-0B69-43AE-BED0-45445F7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8D17D-0979-4CBB-8F89-6C1E835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0A62-4A75-46DF-983E-F8A45091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63F0-5647-4AD9-8D5F-3F3DE2AD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A890-3FD6-4D46-9260-6F999AD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D296-9660-4B33-852F-34FEC5E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26D13-04D5-4CEF-A8C0-218A441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DFA-D9B6-4E6C-A315-A9DA5FE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C42D-EAEF-4613-AAC9-C5AFA5F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EE19-EDE0-4579-B8CD-99808239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2DDF-DD2E-49D3-A1A6-02E91078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5B0B-944C-49F7-BB98-259F632D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5EA4F-C576-4718-B92F-A222B50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DB81-21A9-49CF-B741-FC433311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BF85-AD65-48CD-AA76-9DF27524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5922-A033-470E-A954-7D2B3A75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76958-CF46-4B84-B884-6E29E51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9E13-3414-4B20-81FC-968652AC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9FC-4D66-4E78-8CF3-00497A4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E5569-9FF2-4B2E-8449-7638C471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CFEB-DA93-4748-B037-15856E9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DDC9A-BA08-4F86-9645-777D0C7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0740-4D78-42D4-AF89-2ECD3F54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473D-487C-4429-A87C-BE8E54E2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B86B7-8487-451E-8F51-B5BBEC05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AF01-BCFC-4884-976C-78B01E5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262B-AA65-422D-8D0C-F0742182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2349-359B-416A-9E90-3AFCF11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5D50-F800-496C-BEE9-7CEE692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BDA-6575-457E-86CF-6D9E581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809280" y="447840"/>
            <a:ext cx="1057284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20BB5-9B24-4118-B9DA-D01360D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FD4C-007E-4B42-AB16-8CE6CC0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B7678-2351-45F0-A636-0A5F35F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2FC8-BF02-400E-9FB2-63ADA87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105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D431-A46D-4238-83AB-EA4712A7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2240" y="218448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222240" y="4104360"/>
            <a:ext cx="515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3431-CC0E-4A9D-BF2E-0C9C55C5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8084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952400" y="218448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438084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7952400" y="4104360"/>
            <a:ext cx="340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2EC6-BA09-4544-9F85-2A808E46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7E892-BD3D-4FCB-80B6-F5FA1D48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42EE2-0E0E-46B7-AF7D-DFC0970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6129B-E92D-4D67-9531-EDFA2254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E56C5-6558-4D2F-AAE6-3AF6E0529F97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3886200" y="604152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90040" y="6041520"/>
            <a:ext cx="329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486252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B300F-B635-4051-8EF1-D317DE825039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50" name="Freeform 6"/>
          <p:cNvGrpSpPr/>
          <p:nvPr/>
        </p:nvGrpSpPr>
        <p:grpSpPr>
          <a:xfrm>
            <a:off x="628560" y="1073160"/>
            <a:ext cx="6338880" cy="3254400"/>
            <a:chOff x="628560" y="1073160"/>
            <a:chExt cx="6338880" cy="3254400"/>
          </a:xfrm>
        </p:grpSpPr>
        <p:pic>
          <p:nvPicPr>
            <p:cNvPr id="451" name="Freeform 6" descr=""/>
            <p:cNvPicPr/>
            <p:nvPr/>
          </p:nvPicPr>
          <p:blipFill>
            <a:blip r:embed="rId3"/>
            <a:stretch/>
          </p:blipFill>
          <p:spPr>
            <a:xfrm>
              <a:off x="628560" y="1073160"/>
              <a:ext cx="63388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631800" y="1081080"/>
              <a:ext cx="633240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53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29701-358E-4BE3-90FE-24F9F2F62941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96" name="Freeform 6"/>
          <p:cNvGrpSpPr/>
          <p:nvPr/>
        </p:nvGrpSpPr>
        <p:grpSpPr>
          <a:xfrm>
            <a:off x="1133640" y="2279520"/>
            <a:ext cx="4906800" cy="2517840"/>
            <a:chOff x="1133640" y="2279520"/>
            <a:chExt cx="4906800" cy="2517840"/>
          </a:xfrm>
        </p:grpSpPr>
        <p:pic>
          <p:nvPicPr>
            <p:cNvPr id="497" name="Freeform 6" descr=""/>
            <p:cNvPicPr/>
            <p:nvPr/>
          </p:nvPicPr>
          <p:blipFill>
            <a:blip r:embed="rId3"/>
            <a:stretch/>
          </p:blipFill>
          <p:spPr>
            <a:xfrm>
              <a:off x="1133640" y="2279520"/>
              <a:ext cx="490680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141560" y="2286000"/>
              <a:ext cx="48942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99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10DAD-2903-4149-9BD1-4DF79EEAAD9A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542" name="Freeform 7"/>
          <p:cNvGrpSpPr/>
          <p:nvPr/>
        </p:nvGrpSpPr>
        <p:grpSpPr>
          <a:xfrm>
            <a:off x="-6480" y="-6480"/>
            <a:ext cx="12204720" cy="2200320"/>
            <a:chOff x="-6480" y="-6480"/>
            <a:chExt cx="12204720" cy="2200320"/>
          </a:xfrm>
        </p:grpSpPr>
        <p:pic>
          <p:nvPicPr>
            <p:cNvPr id="543" name="Freeform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0" y="0"/>
              <a:ext cx="12192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45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57F1D-C243-41BE-8051-681E919E2EA6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588" name="Freeform 6"/>
          <p:cNvGrpSpPr/>
          <p:nvPr/>
        </p:nvGrpSpPr>
        <p:grpSpPr>
          <a:xfrm>
            <a:off x="7662960" y="438120"/>
            <a:ext cx="4535280" cy="5426280"/>
            <a:chOff x="7662960" y="438120"/>
            <a:chExt cx="4535280" cy="5426280"/>
          </a:xfrm>
        </p:grpSpPr>
        <p:pic>
          <p:nvPicPr>
            <p:cNvPr id="589" name="Freeform 6" descr=""/>
            <p:cNvPicPr/>
            <p:nvPr/>
          </p:nvPicPr>
          <p:blipFill>
            <a:blip r:embed="rId3"/>
            <a:stretch/>
          </p:blipFill>
          <p:spPr>
            <a:xfrm>
              <a:off x="7662960" y="438120"/>
              <a:ext cx="453528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7669080" y="446040"/>
              <a:ext cx="45230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0D70E-2178-4DC9-805E-4C567A14D7E5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3" name="Freeform 6"/>
          <p:cNvGrpSpPr/>
          <p:nvPr/>
        </p:nvGrpSpPr>
        <p:grpSpPr>
          <a:xfrm>
            <a:off x="-6480" y="-12600"/>
            <a:ext cx="12204720" cy="5217840"/>
            <a:chOff x="-6480" y="-12600"/>
            <a:chExt cx="12204720" cy="5217840"/>
          </a:xfrm>
        </p:grpSpPr>
        <p:pic>
          <p:nvPicPr>
            <p:cNvPr id="44" name="Freeform 6" descr=""/>
            <p:cNvPicPr/>
            <p:nvPr/>
          </p:nvPicPr>
          <p:blipFill>
            <a:blip r:embed="rId3"/>
            <a:stretch/>
          </p:blipFill>
          <p:spPr>
            <a:xfrm>
              <a:off x="-6480" y="-12600"/>
              <a:ext cx="1220472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-3240"/>
              <a:ext cx="1219212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F21C8-9AC8-42FA-BD12-7515E3D2B8EF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89" name="Freeform 6"/>
          <p:cNvGrpSpPr/>
          <p:nvPr/>
        </p:nvGrpSpPr>
        <p:grpSpPr>
          <a:xfrm>
            <a:off x="-6480" y="-6480"/>
            <a:ext cx="12204720" cy="2200320"/>
            <a:chOff x="-6480" y="-6480"/>
            <a:chExt cx="12204720" cy="2200320"/>
          </a:xfrm>
        </p:grpSpPr>
        <p:pic>
          <p:nvPicPr>
            <p:cNvPr id="90" name="Freeform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0"/>
              <a:ext cx="12192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2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AA068-7002-4A1E-989F-8CB068869924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5" name="Freeform 7"/>
          <p:cNvGrpSpPr/>
          <p:nvPr/>
        </p:nvGrpSpPr>
        <p:grpSpPr>
          <a:xfrm>
            <a:off x="-6480" y="-6480"/>
            <a:ext cx="12204720" cy="5218200"/>
            <a:chOff x="-6480" y="-6480"/>
            <a:chExt cx="12204720" cy="5218200"/>
          </a:xfrm>
        </p:grpSpPr>
        <p:pic>
          <p:nvPicPr>
            <p:cNvPr id="136" name="Freeform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1219212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7A7CD-6CEA-4A76-AA61-D38CC3FCEB4C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81" name="Freeform 6"/>
          <p:cNvGrpSpPr/>
          <p:nvPr/>
        </p:nvGrpSpPr>
        <p:grpSpPr>
          <a:xfrm>
            <a:off x="-6480" y="-6480"/>
            <a:ext cx="12204720" cy="2200320"/>
            <a:chOff x="-6480" y="-6480"/>
            <a:chExt cx="12204720" cy="2200320"/>
          </a:xfrm>
        </p:grpSpPr>
        <p:pic>
          <p:nvPicPr>
            <p:cNvPr id="182" name="Freeform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0" y="0"/>
              <a:ext cx="12192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77806-8B14-448F-85C3-ECAF07862199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227" name="Freeform 7"/>
          <p:cNvGrpSpPr/>
          <p:nvPr/>
        </p:nvGrpSpPr>
        <p:grpSpPr>
          <a:xfrm>
            <a:off x="-6480" y="-6480"/>
            <a:ext cx="12204720" cy="2200320"/>
            <a:chOff x="-6480" y="-6480"/>
            <a:chExt cx="12204720" cy="2200320"/>
          </a:xfrm>
        </p:grpSpPr>
        <p:pic>
          <p:nvPicPr>
            <p:cNvPr id="228" name="Freeform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0" y="0"/>
              <a:ext cx="12192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31B8D-ACE1-4F1F-8F0C-7A64CE3F67D1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273" name="Freeform 6"/>
          <p:cNvGrpSpPr/>
          <p:nvPr/>
        </p:nvGrpSpPr>
        <p:grpSpPr>
          <a:xfrm>
            <a:off x="-6480" y="-6480"/>
            <a:ext cx="12204720" cy="2200320"/>
            <a:chOff x="-6480" y="-6480"/>
            <a:chExt cx="12204720" cy="2200320"/>
          </a:xfrm>
        </p:grpSpPr>
        <p:pic>
          <p:nvPicPr>
            <p:cNvPr id="274" name="Freeform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0"/>
              <a:ext cx="12192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76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F77F9-E7B4-496D-B265-952DE5D3622E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5CC5D-8A24-4701-8C0C-02A49B1E1512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362" name="Freeform 6"/>
          <p:cNvGrpSpPr/>
          <p:nvPr/>
        </p:nvGrpSpPr>
        <p:grpSpPr>
          <a:xfrm>
            <a:off x="1066680" y="438120"/>
            <a:ext cx="3560760" cy="1828800"/>
            <a:chOff x="1066680" y="438120"/>
            <a:chExt cx="3560760" cy="1828800"/>
          </a:xfrm>
        </p:grpSpPr>
        <p:pic>
          <p:nvPicPr>
            <p:cNvPr id="363" name="Freeform 6" descr=""/>
            <p:cNvPicPr/>
            <p:nvPr/>
          </p:nvPicPr>
          <p:blipFill>
            <a:blip r:embed="rId3"/>
            <a:stretch/>
          </p:blipFill>
          <p:spPr>
            <a:xfrm>
              <a:off x="1066680" y="438120"/>
              <a:ext cx="3560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073160" y="446040"/>
              <a:ext cx="354816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65" name="Picture 8" descr=""/>
          <p:cNvPicPr/>
          <p:nvPr/>
        </p:nvPicPr>
        <p:blipFill>
          <a:blip r:embed="rId4"/>
          <a:stretch/>
        </p:blipFill>
        <p:spPr>
          <a:xfrm>
            <a:off x="10080720" y="74520"/>
            <a:ext cx="2057400" cy="647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105631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f6fc6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9334080" y="6041520"/>
            <a:ext cx="134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50720" y="6041520"/>
            <a:ext cx="8645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10679040" y="5916240"/>
            <a:ext cx="1062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D20ED-5A8A-4246-B14B-D8AC4BCF3B20}" type="slidenum">
              <a:rPr b="0" lang="en-US" sz="20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1588680" y="5397480"/>
            <a:ext cx="8753400" cy="43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uperheroes: Lesson 4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60200" y="128520"/>
            <a:ext cx="3503880" cy="35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2"/>
          <a:stretch/>
        </p:blipFill>
        <p:spPr>
          <a:xfrm>
            <a:off x="5330880" y="12852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3"/>
          <a:stretch/>
        </p:blipFill>
        <p:spPr>
          <a:xfrm rot="759600">
            <a:off x="1996560" y="1230480"/>
            <a:ext cx="4194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What’s the question?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809640" y="2392200"/>
            <a:ext cx="10555200" cy="4035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ctr">
            <a:normAutofit fontScale="89000"/>
          </a:bodyPr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My birthday is October 2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I live in Canada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My favourite food is pizza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He’s fine, thank you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marL="660960" indent="-660960">
              <a:lnSpc>
                <a:spcPct val="8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Because I’m not feeling well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tretch/>
        </p:blipFill>
        <p:spPr>
          <a:xfrm>
            <a:off x="8737560" y="2044800"/>
            <a:ext cx="2252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447840"/>
            <a:ext cx="115063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I don’t know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685800" y="2354400"/>
            <a:ext cx="10680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n you write five questions where the answer is “I don’t know”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many panda bears live in Chin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your teacher’s favourite TV show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9744120" y="3549600"/>
            <a:ext cx="16225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57200" y="2435400"/>
            <a:ext cx="4383360" cy="200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Century Gothic"/>
              </a:rPr>
              <a:t>Let’s review present tense</a:t>
            </a:r>
            <a:endParaRPr b="1" lang="en-US" sz="3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5110200" y="11700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review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501480" y="2330280"/>
            <a:ext cx="11331720" cy="3506760"/>
          </a:xfrm>
          <a:prstGeom prst="rect">
            <a:avLst/>
          </a:prstGeom>
          <a:noFill/>
          <a:ln w="38160">
            <a:solidFill>
              <a:srgbClr val="0b5395"/>
            </a:solidFill>
            <a:miter/>
          </a:ln>
          <a:effectLst>
            <a:outerShdw dist="38183" dir="2700000" blurRad="0" rotWithShape="0">
              <a:srgbClr val="5ff3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 write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Gothic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n his journal every nigh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write for my school’s newspap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Gothic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alk Spanish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Gothic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live in Brazi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1480" y="447840"/>
            <a:ext cx="114206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an you find the mistakes?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84" name="TextBox 3"/>
          <p:cNvSpPr/>
          <p:nvPr/>
        </p:nvSpPr>
        <p:spPr>
          <a:xfrm>
            <a:off x="484200" y="2349360"/>
            <a:ext cx="104173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 fly around the world every n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jumps over tall building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e don’t have invisibility powe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 wants superhuman strengt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he travel through tim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doesn’t run faster than Superma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Write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484200" y="3227400"/>
            <a:ext cx="7351560" cy="2226960"/>
          </a:xfrm>
          <a:prstGeom prst="rect">
            <a:avLst/>
          </a:prstGeom>
          <a:noFill/>
          <a:ln w="38160">
            <a:solidFill>
              <a:srgbClr val="0b5395"/>
            </a:solidFill>
            <a:miter/>
          </a:ln>
          <a:effectLst>
            <a:outerShdw dist="38183" dir="2700000" blurRad="0" rotWithShape="0">
              <a:srgbClr val="5ff3c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5 sentences about a superhero.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oes he look like?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oes he like to do?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does he spend his tim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7047000" y="11700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57200" y="2435400"/>
            <a:ext cx="4383360" cy="200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Century Gothic"/>
              </a:rPr>
              <a:t>Let’s review singular and plural</a:t>
            </a:r>
            <a:endParaRPr b="1" lang="en-US" sz="3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5056200" y="865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How many do you have?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450720" y="2149560"/>
            <a:ext cx="10342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windows are in this roo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books are her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pets do you hav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brothers do you hav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cups of coffee did you drink toda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hairs are on your head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noses do you hav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ow many people are in your hous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7332840" y="2149560"/>
            <a:ext cx="44956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33080" y="1708200"/>
            <a:ext cx="5335560" cy="1861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efefe"/>
                </a:solidFill>
                <a:latin typeface="Century Gothic"/>
              </a:rPr>
              <a:t>What did I learn today?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573680" y="1081080"/>
            <a:ext cx="3809880" cy="4075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5" name="Rectangle 6" descr=""/>
          <p:cNvPicPr/>
          <p:nvPr/>
        </p:nvPicPr>
        <p:blipFill>
          <a:blip r:embed="rId1"/>
          <a:stretch/>
        </p:blipFill>
        <p:spPr>
          <a:xfrm>
            <a:off x="7443720" y="1073160"/>
            <a:ext cx="4754520" cy="57913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412920" y="3855960"/>
            <a:ext cx="2601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Homework: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3537000" y="2247840"/>
            <a:ext cx="4997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et Superdog!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5 sentences describing his adventure last nigh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-1177920" y="137160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" descr=""/>
          <p:cNvPicPr/>
          <p:nvPr/>
        </p:nvPicPr>
        <p:blipFill>
          <a:blip r:embed="rId2"/>
          <a:stretch/>
        </p:blipFill>
        <p:spPr>
          <a:xfrm>
            <a:off x="8104320" y="2467080"/>
            <a:ext cx="354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Homework Review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3537000" y="2247840"/>
            <a:ext cx="817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list of superpowers we brainstormed earlier.  What superpower is the best?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5 sentenc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-1177920" y="13716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3080" y="1708200"/>
            <a:ext cx="5335560" cy="1861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efefe"/>
                </a:solidFill>
                <a:latin typeface="Century Gothic"/>
              </a:rPr>
              <a:t>What will we do today?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573680" y="1081080"/>
            <a:ext cx="3809880" cy="4075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9" name="Rectangle 5" descr=""/>
          <p:cNvPicPr/>
          <p:nvPr/>
        </p:nvPicPr>
        <p:blipFill>
          <a:blip r:embed="rId1"/>
          <a:stretch/>
        </p:blipFill>
        <p:spPr>
          <a:xfrm>
            <a:off x="7443720" y="1073160"/>
            <a:ext cx="4754520" cy="57913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-363600" y="3570120"/>
            <a:ext cx="3033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try tongue twisters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819000" y="2222640"/>
            <a:ext cx="10553760" cy="1901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Perry's Berry's make peanut butter better.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Buy pie pans before you buy butter plates.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3" name="Rectangle 3" descr=""/>
          <p:cNvPicPr/>
          <p:nvPr/>
        </p:nvPicPr>
        <p:blipFill>
          <a:blip r:embed="rId1"/>
          <a:stretch/>
        </p:blipFill>
        <p:spPr>
          <a:xfrm>
            <a:off x="8723160" y="4443480"/>
            <a:ext cx="2687760" cy="1628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"/>
          <p:cNvPicPr/>
          <p:nvPr/>
        </p:nvPicPr>
        <p:blipFill>
          <a:blip r:embed="rId2"/>
          <a:stretch/>
        </p:blipFill>
        <p:spPr>
          <a:xfrm>
            <a:off x="1353960" y="4376880"/>
            <a:ext cx="1640160" cy="2189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"/>
          <p:cNvPicPr/>
          <p:nvPr/>
        </p:nvPicPr>
        <p:blipFill>
          <a:blip r:embed="rId3"/>
          <a:stretch/>
        </p:blipFill>
        <p:spPr>
          <a:xfrm>
            <a:off x="5300640" y="4387680"/>
            <a:ext cx="23209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try tongue twisters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819000" y="2222280"/>
            <a:ext cx="10553760" cy="1260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wo toads, totally tired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8" name="Rectangle 3" descr=""/>
          <p:cNvPicPr/>
          <p:nvPr/>
        </p:nvPicPr>
        <p:blipFill>
          <a:blip r:embed="rId1"/>
          <a:stretch/>
        </p:blipFill>
        <p:spPr>
          <a:xfrm>
            <a:off x="8723160" y="4443480"/>
            <a:ext cx="2494080" cy="1628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"/>
          <p:cNvPicPr/>
          <p:nvPr/>
        </p:nvPicPr>
        <p:blipFill>
          <a:blip r:embed="rId2"/>
          <a:stretch/>
        </p:blipFill>
        <p:spPr>
          <a:xfrm flipH="1">
            <a:off x="547560" y="4102200"/>
            <a:ext cx="3517920" cy="2311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"/>
          <p:cNvPicPr/>
          <p:nvPr/>
        </p:nvPicPr>
        <p:blipFill>
          <a:blip r:embed="rId3"/>
          <a:stretch/>
        </p:blipFill>
        <p:spPr>
          <a:xfrm flipH="1">
            <a:off x="4500360" y="4840200"/>
            <a:ext cx="23526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try tongue twisters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09640" y="2495520"/>
            <a:ext cx="10553760" cy="2309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ocolate chip cookies in a copper coffee cup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eat gray goa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8723160" y="4443480"/>
            <a:ext cx="3121200" cy="1628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2"/>
          <a:stretch/>
        </p:blipFill>
        <p:spPr>
          <a:xfrm>
            <a:off x="357120" y="4338720"/>
            <a:ext cx="3645000" cy="22352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3"/>
          <a:stretch/>
        </p:blipFill>
        <p:spPr>
          <a:xfrm>
            <a:off x="5153040" y="4338720"/>
            <a:ext cx="31273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33080" y="1708200"/>
            <a:ext cx="5335560" cy="1861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efefe"/>
                </a:solidFill>
                <a:latin typeface="Century Gothic"/>
              </a:rPr>
              <a:t>Let’s review question words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6292800" y="8269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Review:  Question words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603600" y="2365200"/>
          <a:ext cx="4983120" cy="3629160"/>
        </p:xfrm>
        <a:graphic>
          <a:graphicData uri="http://schemas.openxmlformats.org/drawingml/2006/table">
            <a:tbl>
              <a:tblPr/>
              <a:tblGrid>
                <a:gridCol w="49831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uestion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09280" y="447840"/>
            <a:ext cx="1057284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Let’s interview a superhero!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819000" y="2222640"/>
            <a:ext cx="10553760" cy="1955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rite 5 questions that you would ask your favourite superher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 rot="1179600">
            <a:off x="6964200" y="3046320"/>
            <a:ext cx="38703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22:58:26Z</dcterms:created>
  <dc:creator>Marisa L</dc:creator>
  <dc:description/>
  <cp:keywords/>
  <dc:language>en-US</dc:language>
  <cp:lastModifiedBy>Marisa L</cp:lastModifiedBy>
  <cp:lastPrinted>2016-11-26T18:01:17Z</cp:lastPrinted>
  <dcterms:modified xsi:type="dcterms:W3CDTF">2016-12-12T01:36:47Z</dcterms:modified>
  <cp:revision>144</cp:revision>
  <dc:subject/>
  <dc:title>PowerPoint Presentation</dc:title>
</cp:coreProperties>
</file>